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B48-BBB7-49A2-A687-20EA703D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75F-2E54-40AE-9E8B-8B544E4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1E8-94AA-4735-A34C-4BFACC55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4D0-BBB7-4610-9A59-626B0D2C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FF9-D18B-41C3-BA45-FD675A41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E9C-F7F7-44ED-A771-4EEB525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84E-071E-4CB7-9960-56C6A6F4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756-09F4-424F-BFE4-A2F41DB6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730-0ECB-4E17-AF11-2D95420A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248-48EC-42BC-B13B-35C20BBD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77A-56AC-45FA-B477-0CD306FC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10D-281A-427E-A28A-8231B295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5F87-5281-4591-9534-B299C7CF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5912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77080" y="5877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ils Mer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lusine Rion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234936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eu du taqu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6280" y="765000"/>
            <a:ext cx="8937720" cy="224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2602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éation de la zone de je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280360" cy="224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56000" y="3068640"/>
            <a:ext cx="2790720" cy="357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89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éation bout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365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964720" cy="158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8964720" cy="1749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2602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reliée aux bout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2600" y="1363680"/>
            <a:ext cx="374400" cy="1762200"/>
          </a:xfrm>
          <a:custGeom>
            <a:avLst/>
            <a:gdLst/>
            <a:ahLst/>
            <a:rect l="l" t="t" r="r" b="b"/>
            <a:pathLst>
              <a:path w="1040" h="4896">
                <a:moveTo>
                  <a:pt x="8267" y="3787"/>
                </a:moveTo>
                <a:cubicBezTo>
                  <a:pt x="8328" y="3844"/>
                  <a:pt x="8409" y="3882"/>
                  <a:pt x="8474" y="3925"/>
                </a:cubicBezTo>
                <a:cubicBezTo>
                  <a:pt x="8517" y="3953"/>
                  <a:pt x="8578" y="3990"/>
                  <a:pt x="8613" y="4018"/>
                </a:cubicBezTo>
                <a:cubicBezTo>
                  <a:pt x="8626" y="4028"/>
                  <a:pt x="8657" y="4063"/>
                  <a:pt x="8682" y="4087"/>
                </a:cubicBezTo>
                <a:cubicBezTo>
                  <a:pt x="8710" y="4114"/>
                  <a:pt x="8774" y="4146"/>
                  <a:pt x="8798" y="4179"/>
                </a:cubicBezTo>
                <a:cubicBezTo>
                  <a:pt x="8822" y="4212"/>
                  <a:pt x="8844" y="4276"/>
                  <a:pt x="8867" y="4318"/>
                </a:cubicBezTo>
                <a:cubicBezTo>
                  <a:pt x="8880" y="4341"/>
                  <a:pt x="8904" y="4384"/>
                  <a:pt x="8913" y="4410"/>
                </a:cubicBezTo>
                <a:cubicBezTo>
                  <a:pt x="8925" y="4444"/>
                  <a:pt x="8923" y="4491"/>
                  <a:pt x="8936" y="4526"/>
                </a:cubicBezTo>
                <a:cubicBezTo>
                  <a:pt x="8953" y="4573"/>
                  <a:pt x="8976" y="4614"/>
                  <a:pt x="8982" y="4664"/>
                </a:cubicBezTo>
                <a:cubicBezTo>
                  <a:pt x="8992" y="4751"/>
                  <a:pt x="8990" y="4835"/>
                  <a:pt x="9005" y="4918"/>
                </a:cubicBezTo>
                <a:cubicBezTo>
                  <a:pt x="9022" y="5011"/>
                  <a:pt x="9027" y="5100"/>
                  <a:pt x="9029" y="5195"/>
                </a:cubicBezTo>
                <a:cubicBezTo>
                  <a:pt x="9032" y="5306"/>
                  <a:pt x="9037" y="5410"/>
                  <a:pt x="9052" y="5519"/>
                </a:cubicBezTo>
                <a:cubicBezTo>
                  <a:pt x="9064" y="5606"/>
                  <a:pt x="9073" y="5683"/>
                  <a:pt x="9075" y="5773"/>
                </a:cubicBezTo>
                <a:cubicBezTo>
                  <a:pt x="9081" y="6034"/>
                  <a:pt x="9104" y="6382"/>
                  <a:pt x="9052" y="6604"/>
                </a:cubicBezTo>
                <a:cubicBezTo>
                  <a:pt x="9042" y="6648"/>
                  <a:pt x="9039" y="6679"/>
                  <a:pt x="9029" y="6719"/>
                </a:cubicBezTo>
                <a:cubicBezTo>
                  <a:pt x="9021" y="6753"/>
                  <a:pt x="9018" y="6801"/>
                  <a:pt x="9005" y="6835"/>
                </a:cubicBezTo>
                <a:cubicBezTo>
                  <a:pt x="8993" y="6865"/>
                  <a:pt x="8969" y="6897"/>
                  <a:pt x="8959" y="6927"/>
                </a:cubicBezTo>
                <a:cubicBezTo>
                  <a:pt x="8947" y="6963"/>
                  <a:pt x="8945" y="7008"/>
                  <a:pt x="8936" y="7043"/>
                </a:cubicBezTo>
                <a:cubicBezTo>
                  <a:pt x="8922" y="7098"/>
                  <a:pt x="8907" y="7149"/>
                  <a:pt x="8890" y="7204"/>
                </a:cubicBezTo>
                <a:cubicBezTo>
                  <a:pt x="8880" y="7236"/>
                  <a:pt x="8874" y="7266"/>
                  <a:pt x="8867" y="7297"/>
                </a:cubicBezTo>
                <a:cubicBezTo>
                  <a:pt x="8857" y="7337"/>
                  <a:pt x="8861" y="7397"/>
                  <a:pt x="8844" y="7435"/>
                </a:cubicBezTo>
                <a:cubicBezTo>
                  <a:pt x="8824" y="7479"/>
                  <a:pt x="8792" y="7507"/>
                  <a:pt x="8775" y="7551"/>
                </a:cubicBezTo>
                <a:cubicBezTo>
                  <a:pt x="8758" y="7594"/>
                  <a:pt x="8719" y="7646"/>
                  <a:pt x="8705" y="7689"/>
                </a:cubicBezTo>
                <a:cubicBezTo>
                  <a:pt x="8689" y="7736"/>
                  <a:pt x="8678" y="7762"/>
                  <a:pt x="8659" y="7805"/>
                </a:cubicBezTo>
                <a:cubicBezTo>
                  <a:pt x="8644" y="7839"/>
                  <a:pt x="8631" y="7889"/>
                  <a:pt x="8613" y="7920"/>
                </a:cubicBezTo>
                <a:cubicBezTo>
                  <a:pt x="8589" y="7961"/>
                  <a:pt x="8548" y="8004"/>
                  <a:pt x="8521" y="8059"/>
                </a:cubicBezTo>
                <a:cubicBezTo>
                  <a:pt x="8500" y="8101"/>
                  <a:pt x="8474" y="8131"/>
                  <a:pt x="8451" y="8174"/>
                </a:cubicBezTo>
                <a:cubicBezTo>
                  <a:pt x="8437" y="8201"/>
                  <a:pt x="8387" y="8256"/>
                  <a:pt x="8382" y="8267"/>
                </a:cubicBezTo>
                <a:cubicBezTo>
                  <a:pt x="8370" y="8295"/>
                  <a:pt x="8377" y="8333"/>
                  <a:pt x="8359" y="8359"/>
                </a:cubicBezTo>
                <a:cubicBezTo>
                  <a:pt x="8335" y="8394"/>
                  <a:pt x="8318" y="8392"/>
                  <a:pt x="8290" y="8428"/>
                </a:cubicBezTo>
                <a:cubicBezTo>
                  <a:pt x="8264" y="8462"/>
                  <a:pt x="8251" y="8486"/>
                  <a:pt x="8220" y="8521"/>
                </a:cubicBezTo>
                <a:cubicBezTo>
                  <a:pt x="8203" y="8540"/>
                  <a:pt x="8163" y="8580"/>
                  <a:pt x="8151" y="8590"/>
                </a:cubicBezTo>
                <a:cubicBezTo>
                  <a:pt x="8133" y="8605"/>
                  <a:pt x="8093" y="8626"/>
                  <a:pt x="8082" y="8636"/>
                </a:cubicBezTo>
                <a:cubicBezTo>
                  <a:pt x="8059" y="8659"/>
                  <a:pt x="8051" y="8667"/>
                  <a:pt x="8036" y="8682"/>
                </a:cubicBezTo>
                <a:cubicBezTo>
                  <a:pt x="8036" y="8593"/>
                  <a:pt x="8046" y="8483"/>
                  <a:pt x="8059" y="8428"/>
                </a:cubicBezTo>
                <a:cubicBezTo>
                  <a:pt x="8064" y="8407"/>
                  <a:pt x="8081" y="8349"/>
                  <a:pt x="8082" y="8336"/>
                </a:cubicBezTo>
                <a:cubicBezTo>
                  <a:pt x="8089" y="8275"/>
                  <a:pt x="8092" y="8226"/>
                  <a:pt x="8105" y="8174"/>
                </a:cubicBezTo>
                <a:cubicBezTo>
                  <a:pt x="8111" y="8150"/>
                  <a:pt x="8125" y="8099"/>
                  <a:pt x="8128" y="8082"/>
                </a:cubicBezTo>
                <a:cubicBezTo>
                  <a:pt x="8128" y="8059"/>
                  <a:pt x="8128" y="8051"/>
                  <a:pt x="8128" y="8036"/>
                </a:cubicBezTo>
              </a:path>
              <a:path w="1040" h="4896">
                <a:moveTo>
                  <a:pt x="8036" y="8682"/>
                </a:moveTo>
                <a:cubicBezTo>
                  <a:pt x="8198" y="8682"/>
                  <a:pt x="8399" y="8707"/>
                  <a:pt x="8544" y="8659"/>
                </a:cubicBezTo>
                <a:cubicBezTo>
                  <a:pt x="8581" y="8647"/>
                  <a:pt x="8625" y="8647"/>
                  <a:pt x="8659" y="8636"/>
                </a:cubicBezTo>
                <a:cubicBezTo>
                  <a:pt x="8710" y="8619"/>
                  <a:pt x="8773" y="8629"/>
                  <a:pt x="8821" y="8613"/>
                </a:cubicBezTo>
                <a:cubicBezTo>
                  <a:pt x="8845" y="8605"/>
                  <a:pt x="8887" y="8613"/>
                  <a:pt x="8913" y="8613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49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ait appel à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38680" y="2111400"/>
            <a:ext cx="739800" cy="4797360"/>
          </a:xfrm>
          <a:custGeom>
            <a:avLst/>
            <a:gdLst/>
            <a:ahLst/>
            <a:rect l="l" t="t" r="r" b="b"/>
            <a:pathLst>
              <a:path w="2056" h="13325">
                <a:moveTo>
                  <a:pt x="13162" y="5888"/>
                </a:moveTo>
                <a:cubicBezTo>
                  <a:pt x="13190" y="5921"/>
                  <a:pt x="13201" y="5903"/>
                  <a:pt x="13231" y="5934"/>
                </a:cubicBezTo>
                <a:cubicBezTo>
                  <a:pt x="13267" y="5972"/>
                  <a:pt x="13262" y="6032"/>
                  <a:pt x="13300" y="6073"/>
                </a:cubicBezTo>
                <a:cubicBezTo>
                  <a:pt x="13318" y="6092"/>
                  <a:pt x="13355" y="6100"/>
                  <a:pt x="13370" y="6119"/>
                </a:cubicBezTo>
                <a:cubicBezTo>
                  <a:pt x="13407" y="6168"/>
                  <a:pt x="13436" y="6170"/>
                  <a:pt x="13462" y="6211"/>
                </a:cubicBezTo>
                <a:cubicBezTo>
                  <a:pt x="13479" y="6237"/>
                  <a:pt x="13490" y="6275"/>
                  <a:pt x="13508" y="6304"/>
                </a:cubicBezTo>
                <a:cubicBezTo>
                  <a:pt x="13524" y="6330"/>
                  <a:pt x="13518" y="6371"/>
                  <a:pt x="13531" y="6396"/>
                </a:cubicBezTo>
                <a:cubicBezTo>
                  <a:pt x="13554" y="6439"/>
                  <a:pt x="13558" y="6419"/>
                  <a:pt x="13577" y="6465"/>
                </a:cubicBezTo>
                <a:cubicBezTo>
                  <a:pt x="13599" y="6519"/>
                  <a:pt x="13629" y="6564"/>
                  <a:pt x="13647" y="6627"/>
                </a:cubicBezTo>
                <a:cubicBezTo>
                  <a:pt x="13674" y="6722"/>
                  <a:pt x="13684" y="6830"/>
                  <a:pt x="13716" y="6927"/>
                </a:cubicBezTo>
                <a:cubicBezTo>
                  <a:pt x="13751" y="7034"/>
                  <a:pt x="13774" y="7150"/>
                  <a:pt x="13808" y="7251"/>
                </a:cubicBezTo>
                <a:cubicBezTo>
                  <a:pt x="13839" y="7345"/>
                  <a:pt x="13875" y="7440"/>
                  <a:pt x="13901" y="7528"/>
                </a:cubicBezTo>
                <a:cubicBezTo>
                  <a:pt x="13932" y="7633"/>
                  <a:pt x="13995" y="7773"/>
                  <a:pt x="14016" y="7851"/>
                </a:cubicBezTo>
                <a:cubicBezTo>
                  <a:pt x="14033" y="7914"/>
                  <a:pt x="14047" y="7975"/>
                  <a:pt x="14062" y="8036"/>
                </a:cubicBezTo>
                <a:cubicBezTo>
                  <a:pt x="14090" y="8149"/>
                  <a:pt x="14112" y="8265"/>
                  <a:pt x="14132" y="8382"/>
                </a:cubicBezTo>
                <a:cubicBezTo>
                  <a:pt x="14155" y="8519"/>
                  <a:pt x="14156" y="8661"/>
                  <a:pt x="14178" y="8798"/>
                </a:cubicBezTo>
                <a:cubicBezTo>
                  <a:pt x="14230" y="9122"/>
                  <a:pt x="14287" y="9446"/>
                  <a:pt x="14339" y="9767"/>
                </a:cubicBezTo>
                <a:cubicBezTo>
                  <a:pt x="14366" y="9934"/>
                  <a:pt x="14409" y="10105"/>
                  <a:pt x="14432" y="10275"/>
                </a:cubicBezTo>
                <a:cubicBezTo>
                  <a:pt x="14443" y="10361"/>
                  <a:pt x="14446" y="10443"/>
                  <a:pt x="14455" y="10529"/>
                </a:cubicBezTo>
                <a:cubicBezTo>
                  <a:pt x="14464" y="10613"/>
                  <a:pt x="14471" y="10685"/>
                  <a:pt x="14478" y="10760"/>
                </a:cubicBezTo>
                <a:cubicBezTo>
                  <a:pt x="14487" y="10851"/>
                  <a:pt x="14488" y="10946"/>
                  <a:pt x="14501" y="11037"/>
                </a:cubicBezTo>
                <a:cubicBezTo>
                  <a:pt x="14515" y="11136"/>
                  <a:pt x="14557" y="11238"/>
                  <a:pt x="14570" y="11338"/>
                </a:cubicBezTo>
                <a:cubicBezTo>
                  <a:pt x="14584" y="11445"/>
                  <a:pt x="14578" y="11554"/>
                  <a:pt x="14593" y="11661"/>
                </a:cubicBezTo>
                <a:cubicBezTo>
                  <a:pt x="14613" y="11802"/>
                  <a:pt x="14638" y="11936"/>
                  <a:pt x="14663" y="12077"/>
                </a:cubicBezTo>
                <a:cubicBezTo>
                  <a:pt x="14683" y="12188"/>
                  <a:pt x="14693" y="12286"/>
                  <a:pt x="14709" y="12400"/>
                </a:cubicBezTo>
                <a:cubicBezTo>
                  <a:pt x="14735" y="12591"/>
                  <a:pt x="14748" y="12788"/>
                  <a:pt x="14755" y="12977"/>
                </a:cubicBezTo>
                <a:cubicBezTo>
                  <a:pt x="14764" y="13229"/>
                  <a:pt x="14796" y="13447"/>
                  <a:pt x="14824" y="13693"/>
                </a:cubicBezTo>
                <a:cubicBezTo>
                  <a:pt x="14839" y="13826"/>
                  <a:pt x="14853" y="13952"/>
                  <a:pt x="14871" y="14085"/>
                </a:cubicBezTo>
                <a:cubicBezTo>
                  <a:pt x="14889" y="14215"/>
                  <a:pt x="14898" y="14348"/>
                  <a:pt x="14917" y="14478"/>
                </a:cubicBezTo>
                <a:cubicBezTo>
                  <a:pt x="14935" y="14602"/>
                  <a:pt x="14957" y="14721"/>
                  <a:pt x="14963" y="14847"/>
                </a:cubicBezTo>
                <a:cubicBezTo>
                  <a:pt x="14980" y="15224"/>
                  <a:pt x="14982" y="15605"/>
                  <a:pt x="14986" y="15979"/>
                </a:cubicBezTo>
                <a:cubicBezTo>
                  <a:pt x="14988" y="16198"/>
                  <a:pt x="14992" y="16410"/>
                  <a:pt x="15009" y="16625"/>
                </a:cubicBezTo>
                <a:cubicBezTo>
                  <a:pt x="15017" y="16728"/>
                  <a:pt x="15022" y="16825"/>
                  <a:pt x="15032" y="16926"/>
                </a:cubicBezTo>
                <a:cubicBezTo>
                  <a:pt x="15042" y="17025"/>
                  <a:pt x="15042" y="17127"/>
                  <a:pt x="15055" y="17226"/>
                </a:cubicBezTo>
                <a:cubicBezTo>
                  <a:pt x="15069" y="17328"/>
                  <a:pt x="15086" y="17426"/>
                  <a:pt x="15101" y="17526"/>
                </a:cubicBezTo>
                <a:cubicBezTo>
                  <a:pt x="15115" y="17619"/>
                  <a:pt x="15140" y="17707"/>
                  <a:pt x="15148" y="17803"/>
                </a:cubicBezTo>
                <a:cubicBezTo>
                  <a:pt x="15161" y="17958"/>
                  <a:pt x="15158" y="18111"/>
                  <a:pt x="15171" y="18265"/>
                </a:cubicBezTo>
                <a:cubicBezTo>
                  <a:pt x="15180" y="18374"/>
                  <a:pt x="15189" y="18477"/>
                  <a:pt x="15194" y="18588"/>
                </a:cubicBezTo>
                <a:cubicBezTo>
                  <a:pt x="15203" y="18791"/>
                  <a:pt x="15203" y="18999"/>
                  <a:pt x="15217" y="19189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86400" y="41400"/>
            <a:ext cx="7920" cy="66600"/>
          </a:xfrm>
          <a:custGeom>
            <a:avLst/>
            <a:gdLst/>
            <a:ahLst/>
            <a:rect l="l" t="t" r="r" b="b"/>
            <a:pathLst>
              <a:path w="24" h="186">
                <a:moveTo>
                  <a:pt x="15263" y="115"/>
                </a:moveTo>
                <a:cubicBezTo>
                  <a:pt x="15263" y="168"/>
                  <a:pt x="15254" y="188"/>
                  <a:pt x="15240" y="231"/>
                </a:cubicBezTo>
                <a:cubicBezTo>
                  <a:pt x="15234" y="249"/>
                  <a:pt x="15240" y="281"/>
                  <a:pt x="15240" y="300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036000" cy="332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84400" y="108000"/>
            <a:ext cx="2509920" cy="531720"/>
          </a:xfrm>
          <a:custGeom>
            <a:avLst/>
            <a:gdLst/>
            <a:ahLst/>
            <a:rect l="l" t="t" r="r" b="b"/>
            <a:pathLst>
              <a:path w="6974" h="1479">
                <a:moveTo>
                  <a:pt x="15240" y="300"/>
                </a:moveTo>
                <a:cubicBezTo>
                  <a:pt x="15248" y="300"/>
                  <a:pt x="15255" y="300"/>
                  <a:pt x="15263" y="300"/>
                </a:cubicBezTo>
                <a:cubicBezTo>
                  <a:pt x="15255" y="384"/>
                  <a:pt x="15269" y="458"/>
                  <a:pt x="15240" y="531"/>
                </a:cubicBezTo>
                <a:cubicBezTo>
                  <a:pt x="15232" y="531"/>
                  <a:pt x="15225" y="531"/>
                  <a:pt x="15217" y="531"/>
                </a:cubicBezTo>
                <a:cubicBezTo>
                  <a:pt x="15201" y="560"/>
                  <a:pt x="15199" y="584"/>
                  <a:pt x="15171" y="623"/>
                </a:cubicBezTo>
                <a:cubicBezTo>
                  <a:pt x="15165" y="632"/>
                  <a:pt x="15136" y="652"/>
                  <a:pt x="15125" y="670"/>
                </a:cubicBezTo>
                <a:cubicBezTo>
                  <a:pt x="15080" y="681"/>
                  <a:pt x="15103" y="675"/>
                  <a:pt x="15078" y="693"/>
                </a:cubicBezTo>
                <a:cubicBezTo>
                  <a:pt x="15044" y="707"/>
                  <a:pt x="15011" y="732"/>
                  <a:pt x="14986" y="739"/>
                </a:cubicBezTo>
                <a:cubicBezTo>
                  <a:pt x="14948" y="750"/>
                  <a:pt x="14907" y="746"/>
                  <a:pt x="14871" y="762"/>
                </a:cubicBezTo>
                <a:cubicBezTo>
                  <a:pt x="14836" y="778"/>
                  <a:pt x="14813" y="794"/>
                  <a:pt x="14778" y="808"/>
                </a:cubicBezTo>
                <a:cubicBezTo>
                  <a:pt x="14741" y="823"/>
                  <a:pt x="14707" y="843"/>
                  <a:pt x="14663" y="854"/>
                </a:cubicBezTo>
                <a:cubicBezTo>
                  <a:pt x="14617" y="866"/>
                  <a:pt x="14570" y="866"/>
                  <a:pt x="14524" y="877"/>
                </a:cubicBezTo>
                <a:cubicBezTo>
                  <a:pt x="14490" y="885"/>
                  <a:pt x="14469" y="893"/>
                  <a:pt x="14432" y="901"/>
                </a:cubicBezTo>
                <a:cubicBezTo>
                  <a:pt x="14402" y="907"/>
                  <a:pt x="14393" y="918"/>
                  <a:pt x="14363" y="924"/>
                </a:cubicBezTo>
                <a:cubicBezTo>
                  <a:pt x="14323" y="931"/>
                  <a:pt x="14282" y="944"/>
                  <a:pt x="14247" y="947"/>
                </a:cubicBezTo>
                <a:cubicBezTo>
                  <a:pt x="14120" y="958"/>
                  <a:pt x="13967" y="964"/>
                  <a:pt x="13855" y="970"/>
                </a:cubicBezTo>
                <a:cubicBezTo>
                  <a:pt x="13793" y="973"/>
                  <a:pt x="13719" y="989"/>
                  <a:pt x="13670" y="993"/>
                </a:cubicBezTo>
                <a:cubicBezTo>
                  <a:pt x="13002" y="1046"/>
                  <a:pt x="12295" y="909"/>
                  <a:pt x="11638" y="1016"/>
                </a:cubicBezTo>
                <a:cubicBezTo>
                  <a:pt x="11597" y="1023"/>
                  <a:pt x="11555" y="1033"/>
                  <a:pt x="11522" y="1039"/>
                </a:cubicBezTo>
                <a:cubicBezTo>
                  <a:pt x="11467" y="1050"/>
                  <a:pt x="11413" y="1058"/>
                  <a:pt x="11361" y="1062"/>
                </a:cubicBezTo>
                <a:cubicBezTo>
                  <a:pt x="10900" y="1098"/>
                  <a:pt x="10366" y="974"/>
                  <a:pt x="9929" y="1085"/>
                </a:cubicBezTo>
                <a:cubicBezTo>
                  <a:pt x="9878" y="1098"/>
                  <a:pt x="9841" y="1119"/>
                  <a:pt x="9791" y="1131"/>
                </a:cubicBezTo>
                <a:cubicBezTo>
                  <a:pt x="9760" y="1139"/>
                  <a:pt x="9673" y="1153"/>
                  <a:pt x="9652" y="1155"/>
                </a:cubicBezTo>
                <a:cubicBezTo>
                  <a:pt x="9582" y="1162"/>
                  <a:pt x="9526" y="1162"/>
                  <a:pt x="9467" y="1178"/>
                </a:cubicBezTo>
                <a:cubicBezTo>
                  <a:pt x="9430" y="1188"/>
                  <a:pt x="9389" y="1193"/>
                  <a:pt x="9352" y="1201"/>
                </a:cubicBezTo>
                <a:cubicBezTo>
                  <a:pt x="9321" y="1208"/>
                  <a:pt x="9274" y="1215"/>
                  <a:pt x="9236" y="1224"/>
                </a:cubicBezTo>
                <a:cubicBezTo>
                  <a:pt x="9223" y="1228"/>
                  <a:pt x="9159" y="1260"/>
                  <a:pt x="9121" y="1270"/>
                </a:cubicBezTo>
                <a:cubicBezTo>
                  <a:pt x="9079" y="1282"/>
                  <a:pt x="9030" y="1283"/>
                  <a:pt x="8982" y="1293"/>
                </a:cubicBezTo>
                <a:cubicBezTo>
                  <a:pt x="8971" y="1297"/>
                  <a:pt x="8933" y="1335"/>
                  <a:pt x="8890" y="1339"/>
                </a:cubicBezTo>
                <a:cubicBezTo>
                  <a:pt x="8830" y="1345"/>
                  <a:pt x="8777" y="1353"/>
                  <a:pt x="8728" y="1362"/>
                </a:cubicBezTo>
                <a:cubicBezTo>
                  <a:pt x="8692" y="1369"/>
                  <a:pt x="8648" y="1374"/>
                  <a:pt x="8613" y="1385"/>
                </a:cubicBezTo>
                <a:cubicBezTo>
                  <a:pt x="8577" y="1396"/>
                  <a:pt x="8534" y="1401"/>
                  <a:pt x="8497" y="1409"/>
                </a:cubicBezTo>
                <a:cubicBezTo>
                  <a:pt x="8474" y="1414"/>
                  <a:pt x="8410" y="1422"/>
                  <a:pt x="8382" y="1432"/>
                </a:cubicBezTo>
                <a:cubicBezTo>
                  <a:pt x="8352" y="1442"/>
                  <a:pt x="8320" y="1468"/>
                  <a:pt x="8290" y="1478"/>
                </a:cubicBezTo>
                <a:cubicBezTo>
                  <a:pt x="8298" y="1434"/>
                  <a:pt x="8307" y="1401"/>
                  <a:pt x="8313" y="1362"/>
                </a:cubicBezTo>
                <a:cubicBezTo>
                  <a:pt x="8313" y="1354"/>
                  <a:pt x="8313" y="1347"/>
                  <a:pt x="8313" y="1339"/>
                </a:cubicBezTo>
                <a:cubicBezTo>
                  <a:pt x="8319" y="1327"/>
                  <a:pt x="8346" y="1280"/>
                  <a:pt x="8359" y="1247"/>
                </a:cubicBezTo>
                <a:cubicBezTo>
                  <a:pt x="8377" y="1203"/>
                  <a:pt x="8395" y="1156"/>
                  <a:pt x="8405" y="1108"/>
                </a:cubicBezTo>
                <a:cubicBezTo>
                  <a:pt x="8405" y="1100"/>
                  <a:pt x="8405" y="1093"/>
                  <a:pt x="8405" y="1085"/>
                </a:cubicBezTo>
                <a:cubicBezTo>
                  <a:pt x="8437" y="1064"/>
                  <a:pt x="8420" y="1085"/>
                  <a:pt x="8428" y="1039"/>
                </a:cubicBezTo>
                <a:cubicBezTo>
                  <a:pt x="8431" y="1030"/>
                  <a:pt x="8446" y="1005"/>
                  <a:pt x="8451" y="970"/>
                </a:cubicBezTo>
              </a:path>
              <a:path w="6974" h="1479">
                <a:moveTo>
                  <a:pt x="8290" y="1478"/>
                </a:moveTo>
                <a:cubicBezTo>
                  <a:pt x="8341" y="1485"/>
                  <a:pt x="8354" y="1494"/>
                  <a:pt x="8405" y="1501"/>
                </a:cubicBezTo>
                <a:cubicBezTo>
                  <a:pt x="8414" y="1535"/>
                  <a:pt x="8439" y="1558"/>
                  <a:pt x="8474" y="1570"/>
                </a:cubicBezTo>
                <a:cubicBezTo>
                  <a:pt x="8499" y="1578"/>
                  <a:pt x="8577" y="1613"/>
                  <a:pt x="8590" y="1639"/>
                </a:cubicBezTo>
                <a:cubicBezTo>
                  <a:pt x="8590" y="1647"/>
                  <a:pt x="8590" y="1655"/>
                  <a:pt x="8590" y="1663"/>
                </a:cubicBezTo>
                <a:cubicBezTo>
                  <a:pt x="8625" y="1663"/>
                  <a:pt x="8677" y="1672"/>
                  <a:pt x="8705" y="1686"/>
                </a:cubicBezTo>
                <a:cubicBezTo>
                  <a:pt x="8734" y="1700"/>
                  <a:pt x="8773" y="1718"/>
                  <a:pt x="8798" y="1732"/>
                </a:cubicBezTo>
                <a:cubicBezTo>
                  <a:pt x="8821" y="1755"/>
                  <a:pt x="8829" y="1763"/>
                  <a:pt x="8844" y="1778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94320" y="-14400"/>
            <a:ext cx="1440" cy="114480"/>
          </a:xfrm>
          <a:custGeom>
            <a:avLst/>
            <a:gdLst/>
            <a:ahLst/>
            <a:rect l="l" t="t" r="r" b="b"/>
            <a:pathLst>
              <a:path w="1" h="324">
                <a:moveTo>
                  <a:pt x="15263" y="277"/>
                </a:moveTo>
                <a:cubicBezTo>
                  <a:pt x="15263" y="169"/>
                  <a:pt x="15263" y="62"/>
                  <a:pt x="15263" y="-46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96000" y="4508640"/>
            <a:ext cx="1800360" cy="100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9680" y="2684520"/>
            <a:ext cx="465120" cy="1738080"/>
          </a:xfrm>
          <a:custGeom>
            <a:avLst/>
            <a:gdLst/>
            <a:ahLst/>
            <a:rect l="l" t="t" r="r" b="b"/>
            <a:pathLst>
              <a:path w="1294" h="4827">
                <a:moveTo>
                  <a:pt x="15887" y="7458"/>
                </a:moveTo>
                <a:cubicBezTo>
                  <a:pt x="15904" y="7500"/>
                  <a:pt x="15915" y="7531"/>
                  <a:pt x="15933" y="7574"/>
                </a:cubicBezTo>
                <a:cubicBezTo>
                  <a:pt x="15948" y="7611"/>
                  <a:pt x="15964" y="7647"/>
                  <a:pt x="15979" y="7689"/>
                </a:cubicBezTo>
                <a:cubicBezTo>
                  <a:pt x="15990" y="7719"/>
                  <a:pt x="15994" y="7752"/>
                  <a:pt x="16002" y="7782"/>
                </a:cubicBezTo>
                <a:cubicBezTo>
                  <a:pt x="16022" y="7854"/>
                  <a:pt x="16048" y="7916"/>
                  <a:pt x="16071" y="7989"/>
                </a:cubicBezTo>
                <a:cubicBezTo>
                  <a:pt x="16084" y="8029"/>
                  <a:pt x="16109" y="8088"/>
                  <a:pt x="16117" y="8128"/>
                </a:cubicBezTo>
                <a:cubicBezTo>
                  <a:pt x="16138" y="8237"/>
                  <a:pt x="16147" y="8367"/>
                  <a:pt x="16164" y="8474"/>
                </a:cubicBezTo>
                <a:cubicBezTo>
                  <a:pt x="16169" y="8507"/>
                  <a:pt x="16184" y="8565"/>
                  <a:pt x="16187" y="8590"/>
                </a:cubicBezTo>
                <a:cubicBezTo>
                  <a:pt x="16197" y="8671"/>
                  <a:pt x="16194" y="8750"/>
                  <a:pt x="16210" y="8821"/>
                </a:cubicBezTo>
                <a:cubicBezTo>
                  <a:pt x="16220" y="8865"/>
                  <a:pt x="16220" y="8897"/>
                  <a:pt x="16233" y="8936"/>
                </a:cubicBezTo>
                <a:cubicBezTo>
                  <a:pt x="16248" y="8981"/>
                  <a:pt x="16264" y="9030"/>
                  <a:pt x="16279" y="9075"/>
                </a:cubicBezTo>
                <a:cubicBezTo>
                  <a:pt x="16305" y="9153"/>
                  <a:pt x="16325" y="9245"/>
                  <a:pt x="16348" y="9329"/>
                </a:cubicBezTo>
                <a:cubicBezTo>
                  <a:pt x="16386" y="9468"/>
                  <a:pt x="16423" y="9607"/>
                  <a:pt x="16464" y="9744"/>
                </a:cubicBezTo>
                <a:cubicBezTo>
                  <a:pt x="16492" y="9837"/>
                  <a:pt x="16529" y="9931"/>
                  <a:pt x="16556" y="10021"/>
                </a:cubicBezTo>
                <a:cubicBezTo>
                  <a:pt x="16568" y="10062"/>
                  <a:pt x="16590" y="10101"/>
                  <a:pt x="16602" y="10137"/>
                </a:cubicBezTo>
                <a:cubicBezTo>
                  <a:pt x="16616" y="10178"/>
                  <a:pt x="16637" y="10217"/>
                  <a:pt x="16649" y="10252"/>
                </a:cubicBezTo>
                <a:cubicBezTo>
                  <a:pt x="16664" y="10298"/>
                  <a:pt x="16656" y="10345"/>
                  <a:pt x="16672" y="10391"/>
                </a:cubicBezTo>
                <a:cubicBezTo>
                  <a:pt x="16690" y="10444"/>
                  <a:pt x="16728" y="10493"/>
                  <a:pt x="16741" y="10553"/>
                </a:cubicBezTo>
                <a:cubicBezTo>
                  <a:pt x="16754" y="10612"/>
                  <a:pt x="16751" y="10678"/>
                  <a:pt x="16764" y="10737"/>
                </a:cubicBezTo>
                <a:cubicBezTo>
                  <a:pt x="16780" y="10810"/>
                  <a:pt x="16787" y="10895"/>
                  <a:pt x="16810" y="10968"/>
                </a:cubicBezTo>
                <a:cubicBezTo>
                  <a:pt x="16832" y="11038"/>
                  <a:pt x="16852" y="11073"/>
                  <a:pt x="16856" y="11153"/>
                </a:cubicBezTo>
                <a:cubicBezTo>
                  <a:pt x="16859" y="11209"/>
                  <a:pt x="16872" y="11244"/>
                  <a:pt x="16879" y="11291"/>
                </a:cubicBezTo>
                <a:cubicBezTo>
                  <a:pt x="16879" y="11299"/>
                  <a:pt x="16879" y="11307"/>
                  <a:pt x="16879" y="11315"/>
                </a:cubicBezTo>
                <a:cubicBezTo>
                  <a:pt x="16879" y="11316"/>
                  <a:pt x="16896" y="11359"/>
                  <a:pt x="16903" y="11384"/>
                </a:cubicBezTo>
                <a:cubicBezTo>
                  <a:pt x="16914" y="11424"/>
                  <a:pt x="16938" y="11464"/>
                  <a:pt x="16949" y="11499"/>
                </a:cubicBezTo>
                <a:cubicBezTo>
                  <a:pt x="16961" y="11539"/>
                  <a:pt x="16961" y="11577"/>
                  <a:pt x="16972" y="11615"/>
                </a:cubicBezTo>
                <a:cubicBezTo>
                  <a:pt x="16985" y="11658"/>
                  <a:pt x="16987" y="11678"/>
                  <a:pt x="16995" y="11707"/>
                </a:cubicBezTo>
                <a:cubicBezTo>
                  <a:pt x="17004" y="11739"/>
                  <a:pt x="17004" y="11792"/>
                  <a:pt x="17018" y="11823"/>
                </a:cubicBezTo>
                <a:cubicBezTo>
                  <a:pt x="17020" y="11827"/>
                  <a:pt x="17059" y="11869"/>
                  <a:pt x="17064" y="11892"/>
                </a:cubicBezTo>
                <a:cubicBezTo>
                  <a:pt x="17074" y="11941"/>
                  <a:pt x="17067" y="11963"/>
                  <a:pt x="17087" y="12007"/>
                </a:cubicBezTo>
                <a:cubicBezTo>
                  <a:pt x="17100" y="12035"/>
                  <a:pt x="17118" y="12038"/>
                  <a:pt x="17133" y="12077"/>
                </a:cubicBezTo>
                <a:cubicBezTo>
                  <a:pt x="17143" y="12105"/>
                  <a:pt x="17148" y="12144"/>
                  <a:pt x="17157" y="12169"/>
                </a:cubicBezTo>
                <a:cubicBezTo>
                  <a:pt x="17167" y="12198"/>
                  <a:pt x="17175" y="12208"/>
                  <a:pt x="17180" y="12238"/>
                </a:cubicBezTo>
                <a:cubicBezTo>
                  <a:pt x="17180" y="12261"/>
                  <a:pt x="17180" y="12269"/>
                  <a:pt x="17180" y="12284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35760" y="4330800"/>
            <a:ext cx="207720" cy="117360"/>
          </a:xfrm>
          <a:custGeom>
            <a:avLst/>
            <a:gdLst/>
            <a:ahLst/>
            <a:rect l="l" t="t" r="r" b="b"/>
            <a:pathLst>
              <a:path w="578" h="325">
                <a:moveTo>
                  <a:pt x="17341" y="12030"/>
                </a:moveTo>
                <a:cubicBezTo>
                  <a:pt x="17320" y="12079"/>
                  <a:pt x="17318" y="12096"/>
                  <a:pt x="17318" y="12146"/>
                </a:cubicBezTo>
                <a:cubicBezTo>
                  <a:pt x="17318" y="12154"/>
                  <a:pt x="17318" y="12161"/>
                  <a:pt x="17318" y="12169"/>
                </a:cubicBezTo>
                <a:cubicBezTo>
                  <a:pt x="17271" y="12185"/>
                  <a:pt x="17322" y="12213"/>
                  <a:pt x="17272" y="12238"/>
                </a:cubicBezTo>
                <a:cubicBezTo>
                  <a:pt x="17264" y="12238"/>
                  <a:pt x="17257" y="12238"/>
                  <a:pt x="17249" y="12238"/>
                </a:cubicBezTo>
                <a:cubicBezTo>
                  <a:pt x="17244" y="12253"/>
                  <a:pt x="17228" y="12295"/>
                  <a:pt x="17203" y="12307"/>
                </a:cubicBezTo>
                <a:cubicBezTo>
                  <a:pt x="17195" y="12307"/>
                  <a:pt x="17188" y="12307"/>
                  <a:pt x="17180" y="12307"/>
                </a:cubicBezTo>
                <a:cubicBezTo>
                  <a:pt x="17159" y="12394"/>
                  <a:pt x="17138" y="12333"/>
                  <a:pt x="17087" y="12307"/>
                </a:cubicBezTo>
                <a:cubicBezTo>
                  <a:pt x="17054" y="12290"/>
                  <a:pt x="17051" y="12302"/>
                  <a:pt x="17041" y="12261"/>
                </a:cubicBezTo>
                <a:cubicBezTo>
                  <a:pt x="16998" y="12252"/>
                  <a:pt x="16958" y="12243"/>
                  <a:pt x="16926" y="12215"/>
                </a:cubicBezTo>
                <a:cubicBezTo>
                  <a:pt x="16898" y="12190"/>
                  <a:pt x="16868" y="12178"/>
                  <a:pt x="16833" y="12169"/>
                </a:cubicBezTo>
                <a:cubicBezTo>
                  <a:pt x="16822" y="12136"/>
                  <a:pt x="16799" y="12149"/>
                  <a:pt x="16764" y="12123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3720" y="1255680"/>
            <a:ext cx="3940200" cy="108000"/>
          </a:xfrm>
          <a:custGeom>
            <a:avLst/>
            <a:gdLst/>
            <a:ahLst/>
            <a:rect l="l" t="t" r="r" b="b"/>
            <a:pathLst>
              <a:path w="10946" h="301">
                <a:moveTo>
                  <a:pt x="1178" y="3487"/>
                </a:moveTo>
                <a:cubicBezTo>
                  <a:pt x="1852" y="3487"/>
                  <a:pt x="2560" y="3452"/>
                  <a:pt x="3210" y="3533"/>
                </a:cubicBezTo>
                <a:cubicBezTo>
                  <a:pt x="3304" y="3545"/>
                  <a:pt x="3394" y="3545"/>
                  <a:pt x="3487" y="3556"/>
                </a:cubicBezTo>
                <a:cubicBezTo>
                  <a:pt x="3559" y="3564"/>
                  <a:pt x="3620" y="3575"/>
                  <a:pt x="3695" y="3579"/>
                </a:cubicBezTo>
                <a:cubicBezTo>
                  <a:pt x="4725" y="3632"/>
                  <a:pt x="5770" y="3527"/>
                  <a:pt x="6789" y="3625"/>
                </a:cubicBezTo>
                <a:cubicBezTo>
                  <a:pt x="6912" y="3637"/>
                  <a:pt x="7036" y="3657"/>
                  <a:pt x="7158" y="3671"/>
                </a:cubicBezTo>
                <a:cubicBezTo>
                  <a:pt x="7233" y="3680"/>
                  <a:pt x="7307" y="3693"/>
                  <a:pt x="7389" y="3695"/>
                </a:cubicBezTo>
                <a:cubicBezTo>
                  <a:pt x="8011" y="3713"/>
                  <a:pt x="8642" y="3693"/>
                  <a:pt x="9259" y="3718"/>
                </a:cubicBezTo>
                <a:cubicBezTo>
                  <a:pt x="9484" y="3727"/>
                  <a:pt x="9707" y="3733"/>
                  <a:pt x="9929" y="3741"/>
                </a:cubicBezTo>
                <a:cubicBezTo>
                  <a:pt x="10374" y="3757"/>
                  <a:pt x="10851" y="3752"/>
                  <a:pt x="11268" y="3787"/>
                </a:cubicBezTo>
                <a:cubicBezTo>
                  <a:pt x="11548" y="3810"/>
                  <a:pt x="11842" y="3787"/>
                  <a:pt x="12123" y="378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7200" y="836640"/>
            <a:ext cx="89568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704080" cy="280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5276880" cy="238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18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36800" y="839880"/>
            <a:ext cx="2768400" cy="839520"/>
          </a:xfrm>
          <a:custGeom>
            <a:avLst/>
            <a:gdLst/>
            <a:ahLst/>
            <a:rect l="l" t="t" r="r" b="b"/>
            <a:pathLst>
              <a:path w="7690" h="2333">
                <a:moveTo>
                  <a:pt x="12862" y="2355"/>
                </a:moveTo>
                <a:cubicBezTo>
                  <a:pt x="12870" y="2347"/>
                  <a:pt x="12877" y="2340"/>
                  <a:pt x="12885" y="2332"/>
                </a:cubicBezTo>
                <a:cubicBezTo>
                  <a:pt x="12889" y="2361"/>
                  <a:pt x="12903" y="2410"/>
                  <a:pt x="12908" y="2448"/>
                </a:cubicBezTo>
                <a:cubicBezTo>
                  <a:pt x="12918" y="2525"/>
                  <a:pt x="12926" y="2603"/>
                  <a:pt x="12931" y="2679"/>
                </a:cubicBezTo>
                <a:cubicBezTo>
                  <a:pt x="12938" y="2799"/>
                  <a:pt x="12944" y="2964"/>
                  <a:pt x="12954" y="3048"/>
                </a:cubicBezTo>
                <a:cubicBezTo>
                  <a:pt x="12964" y="3128"/>
                  <a:pt x="12952" y="3203"/>
                  <a:pt x="12977" y="3279"/>
                </a:cubicBezTo>
                <a:cubicBezTo>
                  <a:pt x="12992" y="3324"/>
                  <a:pt x="13032" y="3366"/>
                  <a:pt x="13046" y="3417"/>
                </a:cubicBezTo>
                <a:cubicBezTo>
                  <a:pt x="13055" y="3449"/>
                  <a:pt x="13065" y="3480"/>
                  <a:pt x="13069" y="3510"/>
                </a:cubicBezTo>
                <a:cubicBezTo>
                  <a:pt x="13077" y="3570"/>
                  <a:pt x="13065" y="3634"/>
                  <a:pt x="13069" y="3695"/>
                </a:cubicBezTo>
                <a:cubicBezTo>
                  <a:pt x="12947" y="3707"/>
                  <a:pt x="12824" y="3734"/>
                  <a:pt x="12700" y="3741"/>
                </a:cubicBezTo>
                <a:cubicBezTo>
                  <a:pt x="11965" y="3782"/>
                  <a:pt x="11225" y="3693"/>
                  <a:pt x="10506" y="3810"/>
                </a:cubicBezTo>
                <a:cubicBezTo>
                  <a:pt x="10364" y="3833"/>
                  <a:pt x="10213" y="3831"/>
                  <a:pt x="10068" y="3833"/>
                </a:cubicBezTo>
                <a:cubicBezTo>
                  <a:pt x="9860" y="3836"/>
                  <a:pt x="9666" y="3850"/>
                  <a:pt x="9467" y="3879"/>
                </a:cubicBezTo>
                <a:cubicBezTo>
                  <a:pt x="9368" y="3893"/>
                  <a:pt x="9265" y="3880"/>
                  <a:pt x="9167" y="3902"/>
                </a:cubicBezTo>
                <a:cubicBezTo>
                  <a:pt x="9057" y="3926"/>
                  <a:pt x="8954" y="3955"/>
                  <a:pt x="8844" y="3972"/>
                </a:cubicBezTo>
                <a:cubicBezTo>
                  <a:pt x="8730" y="3990"/>
                  <a:pt x="8578" y="4012"/>
                  <a:pt x="8474" y="4018"/>
                </a:cubicBezTo>
                <a:cubicBezTo>
                  <a:pt x="8013" y="4046"/>
                  <a:pt x="7542" y="3990"/>
                  <a:pt x="7089" y="4041"/>
                </a:cubicBezTo>
                <a:cubicBezTo>
                  <a:pt x="7026" y="4048"/>
                  <a:pt x="6966" y="4052"/>
                  <a:pt x="6904" y="4064"/>
                </a:cubicBezTo>
                <a:cubicBezTo>
                  <a:pt x="6829" y="4078"/>
                  <a:pt x="6791" y="4097"/>
                  <a:pt x="6719" y="4110"/>
                </a:cubicBezTo>
                <a:cubicBezTo>
                  <a:pt x="6643" y="4124"/>
                  <a:pt x="6565" y="4143"/>
                  <a:pt x="6489" y="4156"/>
                </a:cubicBezTo>
                <a:cubicBezTo>
                  <a:pt x="6421" y="4168"/>
                  <a:pt x="6349" y="4168"/>
                  <a:pt x="6281" y="4179"/>
                </a:cubicBezTo>
                <a:cubicBezTo>
                  <a:pt x="6230" y="4187"/>
                  <a:pt x="6160" y="4197"/>
                  <a:pt x="6119" y="4203"/>
                </a:cubicBezTo>
                <a:cubicBezTo>
                  <a:pt x="6042" y="4214"/>
                  <a:pt x="5963" y="4241"/>
                  <a:pt x="5888" y="4249"/>
                </a:cubicBezTo>
                <a:cubicBezTo>
                  <a:pt x="5783" y="4260"/>
                  <a:pt x="5666" y="4267"/>
                  <a:pt x="5565" y="4272"/>
                </a:cubicBezTo>
                <a:cubicBezTo>
                  <a:pt x="5503" y="4275"/>
                  <a:pt x="5442" y="4270"/>
                  <a:pt x="5380" y="4272"/>
                </a:cubicBezTo>
                <a:cubicBezTo>
                  <a:pt x="5450" y="4237"/>
                  <a:pt x="5497" y="4206"/>
                  <a:pt x="5565" y="4179"/>
                </a:cubicBezTo>
                <a:cubicBezTo>
                  <a:pt x="5609" y="4161"/>
                  <a:pt x="5662" y="4150"/>
                  <a:pt x="5703" y="4133"/>
                </a:cubicBezTo>
                <a:cubicBezTo>
                  <a:pt x="5778" y="4103"/>
                  <a:pt x="5862" y="4074"/>
                  <a:pt x="5934" y="4041"/>
                </a:cubicBezTo>
                <a:cubicBezTo>
                  <a:pt x="5988" y="4016"/>
                  <a:pt x="6064" y="3978"/>
                  <a:pt x="6096" y="3949"/>
                </a:cubicBezTo>
                <a:cubicBezTo>
                  <a:pt x="6113" y="3933"/>
                  <a:pt x="6137" y="3908"/>
                  <a:pt x="6165" y="3879"/>
                </a:cubicBezTo>
                <a:cubicBezTo>
                  <a:pt x="6165" y="3871"/>
                  <a:pt x="6165" y="3864"/>
                  <a:pt x="6165" y="3856"/>
                </a:cubicBezTo>
              </a:path>
              <a:path w="7690" h="2333">
                <a:moveTo>
                  <a:pt x="5403" y="4295"/>
                </a:moveTo>
                <a:cubicBezTo>
                  <a:pt x="5455" y="4317"/>
                  <a:pt x="5494" y="4335"/>
                  <a:pt x="5542" y="4364"/>
                </a:cubicBezTo>
                <a:cubicBezTo>
                  <a:pt x="5595" y="4396"/>
                  <a:pt x="5696" y="4443"/>
                  <a:pt x="5750" y="4457"/>
                </a:cubicBezTo>
                <a:cubicBezTo>
                  <a:pt x="5793" y="4468"/>
                  <a:pt x="5850" y="4495"/>
                  <a:pt x="5888" y="4503"/>
                </a:cubicBezTo>
                <a:cubicBezTo>
                  <a:pt x="5953" y="4517"/>
                  <a:pt x="6032" y="4538"/>
                  <a:pt x="6096" y="4549"/>
                </a:cubicBezTo>
                <a:cubicBezTo>
                  <a:pt x="6133" y="4555"/>
                  <a:pt x="6201" y="4553"/>
                  <a:pt x="6235" y="4572"/>
                </a:cubicBezTo>
                <a:cubicBezTo>
                  <a:pt x="6265" y="4588"/>
                  <a:pt x="6303" y="4620"/>
                  <a:pt x="6327" y="4641"/>
                </a:cubicBezTo>
                <a:cubicBezTo>
                  <a:pt x="6335" y="4649"/>
                  <a:pt x="6342" y="4656"/>
                  <a:pt x="6350" y="4664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6495840" cy="3467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2338200" cy="2963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03640" y="4869000"/>
            <a:ext cx="2952720" cy="61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68760" y="5578560"/>
            <a:ext cx="1104840" cy="981000"/>
          </a:xfrm>
          <a:custGeom>
            <a:avLst/>
            <a:gdLst/>
            <a:ahLst/>
            <a:rect l="l" t="t" r="r" b="b"/>
            <a:pathLst>
              <a:path w="3072" h="2726">
                <a:moveTo>
                  <a:pt x="7689" y="18219"/>
                </a:moveTo>
                <a:cubicBezTo>
                  <a:pt x="8065" y="18219"/>
                  <a:pt x="8536" y="18283"/>
                  <a:pt x="8890" y="18173"/>
                </a:cubicBezTo>
                <a:cubicBezTo>
                  <a:pt x="8970" y="18148"/>
                  <a:pt x="9042" y="18133"/>
                  <a:pt x="9121" y="18103"/>
                </a:cubicBezTo>
                <a:cubicBezTo>
                  <a:pt x="9187" y="18078"/>
                  <a:pt x="9241" y="18072"/>
                  <a:pt x="9306" y="18057"/>
                </a:cubicBezTo>
                <a:cubicBezTo>
                  <a:pt x="9395" y="18036"/>
                  <a:pt x="9456" y="17999"/>
                  <a:pt x="9537" y="17965"/>
                </a:cubicBezTo>
                <a:cubicBezTo>
                  <a:pt x="9590" y="17943"/>
                  <a:pt x="9654" y="17908"/>
                  <a:pt x="9698" y="17872"/>
                </a:cubicBezTo>
                <a:cubicBezTo>
                  <a:pt x="9737" y="17840"/>
                  <a:pt x="9805" y="17773"/>
                  <a:pt x="9837" y="17734"/>
                </a:cubicBezTo>
                <a:cubicBezTo>
                  <a:pt x="9858" y="17709"/>
                  <a:pt x="9887" y="17678"/>
                  <a:pt x="9906" y="17641"/>
                </a:cubicBezTo>
                <a:cubicBezTo>
                  <a:pt x="9929" y="17596"/>
                  <a:pt x="9959" y="17512"/>
                  <a:pt x="9975" y="17457"/>
                </a:cubicBezTo>
                <a:cubicBezTo>
                  <a:pt x="9989" y="17408"/>
                  <a:pt x="10004" y="17361"/>
                  <a:pt x="10021" y="17318"/>
                </a:cubicBezTo>
                <a:cubicBezTo>
                  <a:pt x="10045" y="17257"/>
                  <a:pt x="10068" y="17191"/>
                  <a:pt x="10091" y="17133"/>
                </a:cubicBezTo>
                <a:cubicBezTo>
                  <a:pt x="10106" y="17093"/>
                  <a:pt x="10118" y="17035"/>
                  <a:pt x="10137" y="16995"/>
                </a:cubicBezTo>
                <a:cubicBezTo>
                  <a:pt x="10150" y="16967"/>
                  <a:pt x="10164" y="16919"/>
                  <a:pt x="10183" y="16879"/>
                </a:cubicBezTo>
                <a:cubicBezTo>
                  <a:pt x="10207" y="16827"/>
                  <a:pt x="10212" y="16798"/>
                  <a:pt x="10229" y="16741"/>
                </a:cubicBezTo>
                <a:cubicBezTo>
                  <a:pt x="10240" y="16704"/>
                  <a:pt x="10239" y="16685"/>
                  <a:pt x="10252" y="16649"/>
                </a:cubicBezTo>
                <a:cubicBezTo>
                  <a:pt x="10278" y="16579"/>
                  <a:pt x="10292" y="16584"/>
                  <a:pt x="10299" y="16510"/>
                </a:cubicBezTo>
                <a:cubicBezTo>
                  <a:pt x="10305" y="16450"/>
                  <a:pt x="10311" y="16397"/>
                  <a:pt x="10322" y="16348"/>
                </a:cubicBezTo>
                <a:cubicBezTo>
                  <a:pt x="10332" y="16302"/>
                  <a:pt x="10360" y="16256"/>
                  <a:pt x="10368" y="16210"/>
                </a:cubicBezTo>
                <a:cubicBezTo>
                  <a:pt x="10379" y="16147"/>
                  <a:pt x="10377" y="16087"/>
                  <a:pt x="10391" y="16025"/>
                </a:cubicBezTo>
                <a:cubicBezTo>
                  <a:pt x="10405" y="15963"/>
                  <a:pt x="10421" y="15895"/>
                  <a:pt x="10437" y="15840"/>
                </a:cubicBezTo>
                <a:cubicBezTo>
                  <a:pt x="10439" y="15834"/>
                  <a:pt x="10456" y="15805"/>
                  <a:pt x="10460" y="15771"/>
                </a:cubicBezTo>
                <a:cubicBezTo>
                  <a:pt x="10465" y="15727"/>
                  <a:pt x="10480" y="15665"/>
                  <a:pt x="10483" y="15633"/>
                </a:cubicBezTo>
                <a:cubicBezTo>
                  <a:pt x="10486" y="15595"/>
                  <a:pt x="10481" y="15555"/>
                  <a:pt x="10483" y="15517"/>
                </a:cubicBezTo>
              </a:path>
              <a:path w="3072" h="2726">
                <a:moveTo>
                  <a:pt x="10529" y="15494"/>
                </a:moveTo>
                <a:cubicBezTo>
                  <a:pt x="10529" y="15536"/>
                  <a:pt x="10510" y="15549"/>
                  <a:pt x="10506" y="15586"/>
                </a:cubicBezTo>
                <a:cubicBezTo>
                  <a:pt x="10502" y="15626"/>
                  <a:pt x="10472" y="15644"/>
                  <a:pt x="10460" y="15679"/>
                </a:cubicBezTo>
                <a:cubicBezTo>
                  <a:pt x="10460" y="15687"/>
                  <a:pt x="10460" y="15694"/>
                  <a:pt x="10460" y="15702"/>
                </a:cubicBezTo>
                <a:cubicBezTo>
                  <a:pt x="10423" y="15714"/>
                  <a:pt x="10451" y="15713"/>
                  <a:pt x="10414" y="15725"/>
                </a:cubicBezTo>
                <a:cubicBezTo>
                  <a:pt x="10405" y="15763"/>
                  <a:pt x="10377" y="15779"/>
                  <a:pt x="10368" y="15817"/>
                </a:cubicBezTo>
                <a:cubicBezTo>
                  <a:pt x="10341" y="15826"/>
                  <a:pt x="10329" y="15836"/>
                  <a:pt x="10299" y="15863"/>
                </a:cubicBezTo>
                <a:cubicBezTo>
                  <a:pt x="10278" y="15884"/>
                  <a:pt x="10270" y="15889"/>
                  <a:pt x="10275" y="15910"/>
                </a:cubicBezTo>
                <a:cubicBezTo>
                  <a:pt x="10248" y="15919"/>
                  <a:pt x="10236" y="15929"/>
                  <a:pt x="10206" y="15956"/>
                </a:cubicBezTo>
                <a:cubicBezTo>
                  <a:pt x="10169" y="15989"/>
                  <a:pt x="10178" y="15994"/>
                  <a:pt x="10137" y="16025"/>
                </a:cubicBezTo>
              </a:path>
              <a:path w="3072" h="2726">
                <a:moveTo>
                  <a:pt x="10506" y="15540"/>
                </a:moveTo>
                <a:cubicBezTo>
                  <a:pt x="10506" y="15589"/>
                  <a:pt x="10475" y="15814"/>
                  <a:pt x="10529" y="15840"/>
                </a:cubicBezTo>
                <a:cubicBezTo>
                  <a:pt x="10537" y="15840"/>
                  <a:pt x="10545" y="15840"/>
                  <a:pt x="10553" y="15840"/>
                </a:cubicBezTo>
                <a:cubicBezTo>
                  <a:pt x="10560" y="15870"/>
                  <a:pt x="10588" y="15918"/>
                  <a:pt x="10622" y="15933"/>
                </a:cubicBezTo>
                <a:cubicBezTo>
                  <a:pt x="10630" y="15933"/>
                  <a:pt x="10637" y="15933"/>
                  <a:pt x="10645" y="15933"/>
                </a:cubicBezTo>
                <a:cubicBezTo>
                  <a:pt x="10655" y="15975"/>
                  <a:pt x="10672" y="15992"/>
                  <a:pt x="10714" y="16002"/>
                </a:cubicBezTo>
                <a:cubicBezTo>
                  <a:pt x="10723" y="16039"/>
                  <a:pt x="10737" y="16063"/>
                  <a:pt x="10760" y="16094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8680" cy="4476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05080" y="1903320"/>
            <a:ext cx="6118200" cy="84240"/>
          </a:xfrm>
          <a:custGeom>
            <a:avLst/>
            <a:gdLst/>
            <a:ahLst/>
            <a:rect l="l" t="t" r="r" b="b"/>
            <a:pathLst>
              <a:path w="16996" h="232">
                <a:moveTo>
                  <a:pt x="3902" y="5380"/>
                </a:moveTo>
                <a:cubicBezTo>
                  <a:pt x="4193" y="5380"/>
                  <a:pt x="4460" y="5399"/>
                  <a:pt x="4734" y="5426"/>
                </a:cubicBezTo>
                <a:cubicBezTo>
                  <a:pt x="4888" y="5441"/>
                  <a:pt x="5043" y="5444"/>
                  <a:pt x="5195" y="5449"/>
                </a:cubicBezTo>
                <a:cubicBezTo>
                  <a:pt x="5427" y="5457"/>
                  <a:pt x="5658" y="5467"/>
                  <a:pt x="5888" y="5473"/>
                </a:cubicBezTo>
                <a:cubicBezTo>
                  <a:pt x="6197" y="5482"/>
                  <a:pt x="6509" y="5488"/>
                  <a:pt x="6812" y="5496"/>
                </a:cubicBezTo>
                <a:cubicBezTo>
                  <a:pt x="8157" y="5533"/>
                  <a:pt x="9620" y="5596"/>
                  <a:pt x="10945" y="5449"/>
                </a:cubicBezTo>
                <a:cubicBezTo>
                  <a:pt x="11038" y="5439"/>
                  <a:pt x="11139" y="5422"/>
                  <a:pt x="11222" y="5403"/>
                </a:cubicBezTo>
                <a:cubicBezTo>
                  <a:pt x="11301" y="5385"/>
                  <a:pt x="11379" y="5375"/>
                  <a:pt x="11453" y="5357"/>
                </a:cubicBezTo>
                <a:cubicBezTo>
                  <a:pt x="11506" y="5344"/>
                  <a:pt x="11578" y="5320"/>
                  <a:pt x="11638" y="5311"/>
                </a:cubicBezTo>
                <a:cubicBezTo>
                  <a:pt x="11731" y="5297"/>
                  <a:pt x="11818" y="5293"/>
                  <a:pt x="11915" y="5288"/>
                </a:cubicBezTo>
                <a:cubicBezTo>
                  <a:pt x="12857" y="5243"/>
                  <a:pt x="13951" y="5187"/>
                  <a:pt x="14871" y="5334"/>
                </a:cubicBezTo>
                <a:cubicBezTo>
                  <a:pt x="14926" y="5343"/>
                  <a:pt x="14956" y="5348"/>
                  <a:pt x="15009" y="5357"/>
                </a:cubicBezTo>
                <a:cubicBezTo>
                  <a:pt x="15092" y="5371"/>
                  <a:pt x="15181" y="5397"/>
                  <a:pt x="15263" y="5403"/>
                </a:cubicBezTo>
                <a:cubicBezTo>
                  <a:pt x="15568" y="5425"/>
                  <a:pt x="15895" y="5438"/>
                  <a:pt x="16187" y="5449"/>
                </a:cubicBezTo>
                <a:cubicBezTo>
                  <a:pt x="16754" y="5470"/>
                  <a:pt x="17330" y="5473"/>
                  <a:pt x="17872" y="5519"/>
                </a:cubicBezTo>
                <a:cubicBezTo>
                  <a:pt x="18309" y="5556"/>
                  <a:pt x="18737" y="5502"/>
                  <a:pt x="19142" y="5426"/>
                </a:cubicBezTo>
                <a:cubicBezTo>
                  <a:pt x="19195" y="5416"/>
                  <a:pt x="19225" y="5412"/>
                  <a:pt x="19281" y="5403"/>
                </a:cubicBezTo>
                <a:cubicBezTo>
                  <a:pt x="19359" y="5391"/>
                  <a:pt x="19433" y="5384"/>
                  <a:pt x="19512" y="5380"/>
                </a:cubicBezTo>
                <a:cubicBezTo>
                  <a:pt x="19971" y="5355"/>
                  <a:pt x="20437" y="5380"/>
                  <a:pt x="20897" y="538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348080"/>
            <a:ext cx="5511960" cy="123840"/>
          </a:xfrm>
          <a:custGeom>
            <a:avLst/>
            <a:gdLst/>
            <a:ahLst/>
            <a:rect l="l" t="t" r="r" b="b"/>
            <a:pathLst>
              <a:path w="15310" h="347">
                <a:moveTo>
                  <a:pt x="2540" y="12331"/>
                </a:moveTo>
                <a:cubicBezTo>
                  <a:pt x="2849" y="12337"/>
                  <a:pt x="3137" y="12367"/>
                  <a:pt x="3441" y="12400"/>
                </a:cubicBezTo>
                <a:cubicBezTo>
                  <a:pt x="3576" y="12415"/>
                  <a:pt x="3713" y="12422"/>
                  <a:pt x="3856" y="12423"/>
                </a:cubicBezTo>
                <a:cubicBezTo>
                  <a:pt x="4498" y="12429"/>
                  <a:pt x="5163" y="12448"/>
                  <a:pt x="5796" y="12400"/>
                </a:cubicBezTo>
                <a:cubicBezTo>
                  <a:pt x="5966" y="12387"/>
                  <a:pt x="6137" y="12352"/>
                  <a:pt x="6304" y="12331"/>
                </a:cubicBezTo>
                <a:cubicBezTo>
                  <a:pt x="6383" y="12321"/>
                  <a:pt x="6491" y="12313"/>
                  <a:pt x="6558" y="12307"/>
                </a:cubicBezTo>
                <a:cubicBezTo>
                  <a:pt x="6705" y="12293"/>
                  <a:pt x="6848" y="12294"/>
                  <a:pt x="6997" y="12284"/>
                </a:cubicBezTo>
                <a:cubicBezTo>
                  <a:pt x="7816" y="12227"/>
                  <a:pt x="8818" y="12142"/>
                  <a:pt x="9629" y="12284"/>
                </a:cubicBezTo>
                <a:cubicBezTo>
                  <a:pt x="9697" y="12296"/>
                  <a:pt x="9766" y="12318"/>
                  <a:pt x="9837" y="12331"/>
                </a:cubicBezTo>
                <a:cubicBezTo>
                  <a:pt x="9912" y="12345"/>
                  <a:pt x="9975" y="12371"/>
                  <a:pt x="10045" y="12377"/>
                </a:cubicBezTo>
                <a:cubicBezTo>
                  <a:pt x="10461" y="12414"/>
                  <a:pt x="10889" y="12362"/>
                  <a:pt x="11291" y="12307"/>
                </a:cubicBezTo>
                <a:cubicBezTo>
                  <a:pt x="11436" y="12287"/>
                  <a:pt x="11586" y="12254"/>
                  <a:pt x="11730" y="12238"/>
                </a:cubicBezTo>
                <a:cubicBezTo>
                  <a:pt x="11894" y="12220"/>
                  <a:pt x="12032" y="12203"/>
                  <a:pt x="12192" y="12169"/>
                </a:cubicBezTo>
                <a:cubicBezTo>
                  <a:pt x="12274" y="12151"/>
                  <a:pt x="12340" y="12130"/>
                  <a:pt x="12423" y="12123"/>
                </a:cubicBezTo>
                <a:cubicBezTo>
                  <a:pt x="12962" y="12079"/>
                  <a:pt x="13524" y="12086"/>
                  <a:pt x="14062" y="12077"/>
                </a:cubicBezTo>
                <a:cubicBezTo>
                  <a:pt x="14785" y="12064"/>
                  <a:pt x="15498" y="12101"/>
                  <a:pt x="16210" y="12146"/>
                </a:cubicBezTo>
                <a:cubicBezTo>
                  <a:pt x="16597" y="12171"/>
                  <a:pt x="16972" y="12077"/>
                  <a:pt x="17341" y="12077"/>
                </a:cubicBezTo>
                <a:cubicBezTo>
                  <a:pt x="17460" y="12077"/>
                  <a:pt x="17573" y="12082"/>
                  <a:pt x="17688" y="12100"/>
                </a:cubicBezTo>
                <a:cubicBezTo>
                  <a:pt x="17740" y="12108"/>
                  <a:pt x="17806" y="12139"/>
                  <a:pt x="17849" y="1214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7680" y="4613400"/>
            <a:ext cx="3159360" cy="117360"/>
          </a:xfrm>
          <a:custGeom>
            <a:avLst/>
            <a:gdLst/>
            <a:ahLst/>
            <a:rect l="l" t="t" r="r" b="b"/>
            <a:pathLst>
              <a:path w="8775" h="325">
                <a:moveTo>
                  <a:pt x="11961" y="13000"/>
                </a:moveTo>
                <a:cubicBezTo>
                  <a:pt x="11751" y="13007"/>
                  <a:pt x="11547" y="13035"/>
                  <a:pt x="11338" y="13046"/>
                </a:cubicBezTo>
                <a:cubicBezTo>
                  <a:pt x="10475" y="13090"/>
                  <a:pt x="9609" y="13001"/>
                  <a:pt x="8751" y="13093"/>
                </a:cubicBezTo>
                <a:cubicBezTo>
                  <a:pt x="8389" y="13132"/>
                  <a:pt x="8030" y="13139"/>
                  <a:pt x="7666" y="13139"/>
                </a:cubicBezTo>
                <a:cubicBezTo>
                  <a:pt x="6582" y="13139"/>
                  <a:pt x="5443" y="13230"/>
                  <a:pt x="4364" y="13116"/>
                </a:cubicBezTo>
                <a:cubicBezTo>
                  <a:pt x="4192" y="13098"/>
                  <a:pt x="4063" y="13061"/>
                  <a:pt x="3902" y="13000"/>
                </a:cubicBezTo>
                <a:cubicBezTo>
                  <a:pt x="3810" y="12965"/>
                  <a:pt x="3718" y="12913"/>
                  <a:pt x="3625" y="12885"/>
                </a:cubicBezTo>
                <a:cubicBezTo>
                  <a:pt x="3541" y="12860"/>
                  <a:pt x="3455" y="12854"/>
                  <a:pt x="3371" y="12839"/>
                </a:cubicBezTo>
                <a:cubicBezTo>
                  <a:pt x="3334" y="12832"/>
                  <a:pt x="3313" y="12819"/>
                  <a:pt x="3279" y="12815"/>
                </a:cubicBezTo>
                <a:cubicBezTo>
                  <a:pt x="3249" y="12812"/>
                  <a:pt x="3217" y="12820"/>
                  <a:pt x="3187" y="1281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3000" y="4805280"/>
            <a:ext cx="3516480" cy="82800"/>
          </a:xfrm>
          <a:custGeom>
            <a:avLst/>
            <a:gdLst/>
            <a:ahLst/>
            <a:rect l="l" t="t" r="r" b="b"/>
            <a:pathLst>
              <a:path w="9768" h="231">
                <a:moveTo>
                  <a:pt x="2425" y="13485"/>
                </a:moveTo>
                <a:cubicBezTo>
                  <a:pt x="2656" y="13504"/>
                  <a:pt x="2884" y="13528"/>
                  <a:pt x="3117" y="13531"/>
                </a:cubicBezTo>
                <a:cubicBezTo>
                  <a:pt x="4817" y="13554"/>
                  <a:pt x="6829" y="13791"/>
                  <a:pt x="8497" y="13485"/>
                </a:cubicBezTo>
                <a:cubicBezTo>
                  <a:pt x="8616" y="13463"/>
                  <a:pt x="8752" y="13447"/>
                  <a:pt x="8867" y="13416"/>
                </a:cubicBezTo>
                <a:cubicBezTo>
                  <a:pt x="8915" y="13403"/>
                  <a:pt x="8970" y="13376"/>
                  <a:pt x="9029" y="13370"/>
                </a:cubicBezTo>
                <a:cubicBezTo>
                  <a:pt x="9166" y="13356"/>
                  <a:pt x="9306" y="13352"/>
                  <a:pt x="9444" y="13347"/>
                </a:cubicBezTo>
                <a:cubicBezTo>
                  <a:pt x="9670" y="13339"/>
                  <a:pt x="9893" y="13361"/>
                  <a:pt x="10114" y="13370"/>
                </a:cubicBezTo>
                <a:cubicBezTo>
                  <a:pt x="10353" y="13380"/>
                  <a:pt x="10599" y="13351"/>
                  <a:pt x="10830" y="13393"/>
                </a:cubicBezTo>
                <a:cubicBezTo>
                  <a:pt x="10913" y="13408"/>
                  <a:pt x="11001" y="13422"/>
                  <a:pt x="11084" y="13439"/>
                </a:cubicBezTo>
                <a:cubicBezTo>
                  <a:pt x="11206" y="13465"/>
                  <a:pt x="11332" y="13509"/>
                  <a:pt x="11453" y="13531"/>
                </a:cubicBezTo>
                <a:cubicBezTo>
                  <a:pt x="11500" y="13539"/>
                  <a:pt x="11537" y="13548"/>
                  <a:pt x="11592" y="13554"/>
                </a:cubicBezTo>
                <a:cubicBezTo>
                  <a:pt x="11789" y="13577"/>
                  <a:pt x="11999" y="13556"/>
                  <a:pt x="12192" y="1357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6480" y="4695840"/>
            <a:ext cx="257040" cy="9360"/>
          </a:xfrm>
          <a:custGeom>
            <a:avLst/>
            <a:gdLst/>
            <a:ahLst/>
            <a:rect l="l" t="t" r="r" b="b"/>
            <a:pathLst>
              <a:path w="717" h="24">
                <a:moveTo>
                  <a:pt x="2517" y="13046"/>
                </a:moveTo>
                <a:cubicBezTo>
                  <a:pt x="2716" y="13046"/>
                  <a:pt x="2958" y="13014"/>
                  <a:pt x="3140" y="13069"/>
                </a:cubicBezTo>
                <a:cubicBezTo>
                  <a:pt x="3166" y="13077"/>
                  <a:pt x="3206" y="13069"/>
                  <a:pt x="3233" y="1306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5800" y="5062680"/>
            <a:ext cx="5686200" cy="133200"/>
          </a:xfrm>
          <a:custGeom>
            <a:avLst/>
            <a:gdLst/>
            <a:ahLst/>
            <a:rect l="l" t="t" r="r" b="b"/>
            <a:pathLst>
              <a:path w="15796" h="371">
                <a:moveTo>
                  <a:pt x="2655" y="14155"/>
                </a:moveTo>
                <a:cubicBezTo>
                  <a:pt x="2738" y="14174"/>
                  <a:pt x="2827" y="14177"/>
                  <a:pt x="2909" y="14201"/>
                </a:cubicBezTo>
                <a:cubicBezTo>
                  <a:pt x="3156" y="14275"/>
                  <a:pt x="3381" y="14343"/>
                  <a:pt x="3648" y="14363"/>
                </a:cubicBezTo>
                <a:cubicBezTo>
                  <a:pt x="3866" y="14379"/>
                  <a:pt x="4081" y="14396"/>
                  <a:pt x="4295" y="14409"/>
                </a:cubicBezTo>
                <a:cubicBezTo>
                  <a:pt x="4553" y="14425"/>
                  <a:pt x="4837" y="14417"/>
                  <a:pt x="5080" y="14386"/>
                </a:cubicBezTo>
                <a:cubicBezTo>
                  <a:pt x="5130" y="14380"/>
                  <a:pt x="5143" y="14344"/>
                  <a:pt x="5195" y="14339"/>
                </a:cubicBezTo>
                <a:cubicBezTo>
                  <a:pt x="5388" y="14322"/>
                  <a:pt x="5574" y="14312"/>
                  <a:pt x="5750" y="14293"/>
                </a:cubicBezTo>
                <a:cubicBezTo>
                  <a:pt x="5844" y="14283"/>
                  <a:pt x="5932" y="14279"/>
                  <a:pt x="6027" y="14270"/>
                </a:cubicBezTo>
                <a:cubicBezTo>
                  <a:pt x="6304" y="14244"/>
                  <a:pt x="6580" y="14193"/>
                  <a:pt x="6858" y="14178"/>
                </a:cubicBezTo>
                <a:cubicBezTo>
                  <a:pt x="7267" y="14157"/>
                  <a:pt x="7673" y="14155"/>
                  <a:pt x="8082" y="14155"/>
                </a:cubicBezTo>
                <a:cubicBezTo>
                  <a:pt x="8296" y="14155"/>
                  <a:pt x="8498" y="14162"/>
                  <a:pt x="8705" y="14178"/>
                </a:cubicBezTo>
                <a:cubicBezTo>
                  <a:pt x="8762" y="14182"/>
                  <a:pt x="8833" y="14190"/>
                  <a:pt x="8890" y="14201"/>
                </a:cubicBezTo>
                <a:cubicBezTo>
                  <a:pt x="8993" y="14221"/>
                  <a:pt x="9089" y="14260"/>
                  <a:pt x="9190" y="14270"/>
                </a:cubicBezTo>
                <a:cubicBezTo>
                  <a:pt x="9287" y="14280"/>
                  <a:pt x="9404" y="14284"/>
                  <a:pt x="9490" y="14293"/>
                </a:cubicBezTo>
                <a:cubicBezTo>
                  <a:pt x="10083" y="14353"/>
                  <a:pt x="10688" y="14386"/>
                  <a:pt x="11268" y="14432"/>
                </a:cubicBezTo>
                <a:cubicBezTo>
                  <a:pt x="12210" y="14506"/>
                  <a:pt x="13180" y="14406"/>
                  <a:pt x="14109" y="14339"/>
                </a:cubicBezTo>
                <a:cubicBezTo>
                  <a:pt x="14243" y="14329"/>
                  <a:pt x="14393" y="14323"/>
                  <a:pt x="14524" y="14293"/>
                </a:cubicBezTo>
                <a:cubicBezTo>
                  <a:pt x="14593" y="14277"/>
                  <a:pt x="14661" y="14243"/>
                  <a:pt x="14732" y="14224"/>
                </a:cubicBezTo>
                <a:cubicBezTo>
                  <a:pt x="14811" y="14203"/>
                  <a:pt x="14883" y="14164"/>
                  <a:pt x="14963" y="14155"/>
                </a:cubicBezTo>
                <a:cubicBezTo>
                  <a:pt x="15658" y="14073"/>
                  <a:pt x="16449" y="14142"/>
                  <a:pt x="17110" y="14201"/>
                </a:cubicBezTo>
                <a:cubicBezTo>
                  <a:pt x="17347" y="14222"/>
                  <a:pt x="17562" y="14169"/>
                  <a:pt x="17780" y="14132"/>
                </a:cubicBezTo>
                <a:cubicBezTo>
                  <a:pt x="17850" y="14120"/>
                  <a:pt x="17917" y="14095"/>
                  <a:pt x="17988" y="14085"/>
                </a:cubicBezTo>
                <a:cubicBezTo>
                  <a:pt x="18047" y="14077"/>
                  <a:pt x="18072" y="14066"/>
                  <a:pt x="18126" y="14062"/>
                </a:cubicBezTo>
                <a:cubicBezTo>
                  <a:pt x="18243" y="14053"/>
                  <a:pt x="18363" y="14083"/>
                  <a:pt x="18450" y="140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32720" y="2205000"/>
            <a:ext cx="2239920" cy="3032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721640" y="1812960"/>
            <a:ext cx="183960" cy="588960"/>
          </a:xfrm>
          <a:custGeom>
            <a:avLst/>
            <a:gdLst/>
            <a:ahLst/>
            <a:rect l="l" t="t" r="r" b="b"/>
            <a:pathLst>
              <a:path w="509" h="1640">
                <a:moveTo>
                  <a:pt x="21798" y="5034"/>
                </a:moveTo>
                <a:cubicBezTo>
                  <a:pt x="21787" y="5074"/>
                  <a:pt x="21777" y="5107"/>
                  <a:pt x="21775" y="5149"/>
                </a:cubicBezTo>
                <a:cubicBezTo>
                  <a:pt x="21773" y="5193"/>
                  <a:pt x="21759" y="5231"/>
                  <a:pt x="21752" y="5265"/>
                </a:cubicBezTo>
                <a:cubicBezTo>
                  <a:pt x="21739" y="5331"/>
                  <a:pt x="21740" y="5409"/>
                  <a:pt x="21729" y="5473"/>
                </a:cubicBezTo>
                <a:cubicBezTo>
                  <a:pt x="21694" y="5684"/>
                  <a:pt x="21747" y="5919"/>
                  <a:pt x="21705" y="6119"/>
                </a:cubicBezTo>
                <a:cubicBezTo>
                  <a:pt x="21691" y="6186"/>
                  <a:pt x="21694" y="6268"/>
                  <a:pt x="21682" y="6327"/>
                </a:cubicBezTo>
                <a:cubicBezTo>
                  <a:pt x="21665" y="6411"/>
                  <a:pt x="21682" y="6518"/>
                  <a:pt x="21682" y="6604"/>
                </a:cubicBezTo>
              </a:path>
              <a:path w="509" h="1640">
                <a:moveTo>
                  <a:pt x="21705" y="6673"/>
                </a:moveTo>
                <a:cubicBezTo>
                  <a:pt x="21690" y="6613"/>
                  <a:pt x="21666" y="6627"/>
                  <a:pt x="21636" y="6581"/>
                </a:cubicBezTo>
                <a:cubicBezTo>
                  <a:pt x="21636" y="6573"/>
                  <a:pt x="21636" y="6566"/>
                  <a:pt x="21636" y="6558"/>
                </a:cubicBezTo>
                <a:cubicBezTo>
                  <a:pt x="21588" y="6546"/>
                  <a:pt x="21597" y="6524"/>
                  <a:pt x="21567" y="6489"/>
                </a:cubicBezTo>
                <a:cubicBezTo>
                  <a:pt x="21546" y="6467"/>
                  <a:pt x="21542" y="6459"/>
                  <a:pt x="21521" y="6465"/>
                </a:cubicBezTo>
                <a:cubicBezTo>
                  <a:pt x="21512" y="6428"/>
                  <a:pt x="21486" y="6407"/>
                  <a:pt x="21475" y="6373"/>
                </a:cubicBezTo>
                <a:cubicBezTo>
                  <a:pt x="21461" y="6332"/>
                  <a:pt x="21495" y="6341"/>
                  <a:pt x="21451" y="6327"/>
                </a:cubicBezTo>
              </a:path>
              <a:path w="509" h="1640">
                <a:moveTo>
                  <a:pt x="21682" y="6650"/>
                </a:moveTo>
                <a:cubicBezTo>
                  <a:pt x="21738" y="6650"/>
                  <a:pt x="21727" y="6642"/>
                  <a:pt x="21752" y="6604"/>
                </a:cubicBezTo>
                <a:cubicBezTo>
                  <a:pt x="21773" y="6583"/>
                  <a:pt x="21780" y="6579"/>
                  <a:pt x="21775" y="6558"/>
                </a:cubicBezTo>
                <a:cubicBezTo>
                  <a:pt x="21809" y="6550"/>
                  <a:pt x="21833" y="6524"/>
                  <a:pt x="21844" y="6489"/>
                </a:cubicBezTo>
                <a:cubicBezTo>
                  <a:pt x="21856" y="6451"/>
                  <a:pt x="21820" y="6396"/>
                  <a:pt x="21867" y="6373"/>
                </a:cubicBezTo>
                <a:cubicBezTo>
                  <a:pt x="21875" y="6373"/>
                  <a:pt x="21882" y="6373"/>
                  <a:pt x="21890" y="6373"/>
                </a:cubicBezTo>
                <a:cubicBezTo>
                  <a:pt x="21896" y="6351"/>
                  <a:pt x="21902" y="6301"/>
                  <a:pt x="21913" y="6281"/>
                </a:cubicBezTo>
                <a:cubicBezTo>
                  <a:pt x="21936" y="6258"/>
                  <a:pt x="21944" y="6250"/>
                  <a:pt x="21959" y="6235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7T08:52:28Z</dcterms:created>
  <dc:creator>Utilisateur Windows</dc:creator>
  <dc:description/>
  <dc:language>en-US</dc:language>
  <cp:lastModifiedBy>Utilisateur Windows</cp:lastModifiedBy>
  <dcterms:modified xsi:type="dcterms:W3CDTF">2022-04-07T09:31:43Z</dcterms:modified>
  <cp:revision>2</cp:revision>
  <dc:subject/>
  <dc:title>Diapositive 1</dc:title>
</cp:coreProperties>
</file>